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3EDF-D357-491E-97DF-953C2807AB11}"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143D4B7-3CB5-4E5B-9A47-5C4654872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1D1854A-2A4C-4BB3-BC5D-9796C7E1B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583D8E9-4D04-47F8-95E6-650A393B26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AD14A49-52E0-48BC-A955-6FBFB1FC5B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777F664-2493-47C7-AB29-09759A03CFF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D584DA2-21D5-4F9A-AD1D-851CE49D27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85DED55-ACEC-439E-8C53-3F96D60900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CAC8C7B-DCE1-40CE-BD23-A2E8E9CEA2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0CEF6EC-3523-4875-976D-01E93E5EE2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EF8C801-5C65-40DC-A3AB-65B8300DD5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B878FE5-DDE1-4EC5-995D-C7F1C9CAF8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21A551E-EDB7-402B-AEAC-484F4F1F5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FC2C929-263A-4F9A-B714-4729576FCA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AF05A30-8415-4F5A-B047-725DFEC08E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5898063-AEFC-49F5-BBCB-5DC9589DD9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0A255D0A-63BF-4C44-A4A2-C6B9D3DB7DC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A64C7BBC-AA8D-4047-A03D-2FE877B9869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C079BB6-15CF-4CDE-9AED-C86A948A56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59FE89E-53D4-4DC4-9409-193F0F97F8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D764997-812B-48BE-8F14-3FF121C4C3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64FEC50-38D7-4BFB-9D34-05549EC065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B2BD2C-7B4B-489E-AAF3-6F23077856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382876-5A2F-4D79-AA57-C36CBD398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D169A8C-8729-49D8-A295-D167034399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0CC813E-618F-4FE9-91C4-0C8E8CE6A7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B3AE3B6-6E39-41E8-BD39-B87520CA97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7467C0B-E420-4E7D-8F0D-3EA3B8CD51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B230555-45E3-42A3-8891-E26121E834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6B16A78-69B0-4F13-AEA3-E59174CB6F2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770680E-F77C-4014-8BF4-F96CA317E0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6D7A65A-4BE1-4A96-8E02-07B68EDC2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1E2125D-A66C-432D-960A-5A64C725B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17894CA-C43D-4B56-AEF3-B056F3224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307194-7AED-4F33-B619-D3C02C13B8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957FE8D-653A-4BEF-96A3-5BC9CEEC5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1BAC57D-58E7-4484-8D3D-B3149BE16C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B1C0-8A7A-40E3-A1AE-D44D9590B0E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BAA8-9C9E-411F-B942-54309C87129E}" type="datetime">
              <a:rPr b="0" lang="de-DE" sz="900" spc="-1" strike="noStrike">
                <a:solidFill>
                  <a:srgbClr val="000000"/>
                </a:solidFill>
                <a:latin typeface="DB Office"/>
              </a:rPr>
              <a:t>29.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A5CB-817E-498A-B914-7248D061311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71CF-3FF3-44BF-8212-1BB1EFE4F2D0}" type="datetime">
              <a:rPr b="0" lang="de-DE" sz="900" spc="-1" strike="noStrike">
                <a:solidFill>
                  <a:srgbClr val="000000"/>
                </a:solidFill>
                <a:latin typeface="DB Office"/>
              </a:rPr>
              <a:t>29.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A4F6-2833-4746-B583-B877CAB73F9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3D8D-5E5C-4B9B-9E59-2DF2D40291C2}" type="datetime">
              <a:rPr b="0" lang="de-DE" sz="900" spc="-1" strike="noStrike">
                <a:solidFill>
                  <a:srgbClr val="000000"/>
                </a:solidFill>
                <a:latin typeface="DB Office"/>
              </a:rPr>
              <a:t>29.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1BE5-A37F-4B1D-AE59-87519F29586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262F-6FCB-4917-B752-169898D9BCE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B8D0-B2D0-4318-9129-A2B7A17BB63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536C-0B26-49A9-AAAB-965180B4447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49C5-E4E1-4951-B147-1FD4324FC1F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F658-FF6B-4B9E-989C-06C9BFC7849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D7D4-68C5-42FC-A8CF-15ECE2CC726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9793-33B0-4F76-8AEB-588406D1EAC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5BCF-98A5-40E3-8919-A25405DEC8B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A83B-80E7-4DB1-A833-2C13895C33F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056B-3E67-4D1B-8469-41B8B0F8221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E3B9-27C1-4E23-A3CE-B4E70D19F20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4E28-FA4B-4BDF-9844-8E6CF34389F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62F4-35EE-435F-955E-D7F1B0E3187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343E-8282-417D-B1A1-926B896888B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214F-6BD0-4933-8D39-25C810AF217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