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19A3-5A80-4BA2-BB91-A4C2BBF804E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erh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einige Fragestellungen wird die Datengrundlage nicht den Anforderungen entsprechen. In diesem Fall muss eine Datenerhebung angestoßen werden. Dies kann erhebliche Auswirkungen auf den Zeitbedarf für den Gesamtprozess ha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lätter zur Erhebung des korrektiven und präventiven Instandhaltungsaufwands im Rahmen von Ausschreibungen dem Hersteller übermitteln  („060411_Datenblätter_LCC_DBAG.xls “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mulare (selbst erstellt) zur Datenerfassung aufstellen und vor Ort auf ihre Praktikabilität überprü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erhebung anstoßen bzw.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und Ergebnisse aus der Vergangenheit sind genau auf Ihre Übertrag- bzw. Verwendbarkeit zu überprüfen. Dies gilt insbesondere deshalb, da es sich bei fast allen LCC-Aussagen um Vergleichsbetrachtungen hand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richtigen Zeithorizont für die Identifikation der Auswirkungen fest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istierende Datensysteme und Aufzeichnungen erfr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auf Vollständigkeit und Qualitä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systeme auf Verifikationstauglichkei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nntnis über die Brauchbarkeit der Daten für die Analyse und die Vertragsver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. B. ISI(SAP)-Daten betrachten, Aufzeichnungen der Werke abfrage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ordnung der Tätigkeitsbezeichnungen / Materialbezeichnungen zu den Kostenblöcken. (Zuordnungsmatrix noch nicht überall vorhan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verlässigkeiten fest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verfügbaren Datenlage und Expertenwissen (z. B. System- und Modulbetreuer) zur Festlegung der Nutzungsdauer. (Differenzen zwischen technischer Lebensdauer und kaufmännische Nutzungsdauer sind zu beach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die Unterstützung bei der Erhebung und Analyse von Daten können die OEen TZF 11, TZF 62 etc. kontaktier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Times New Roman"/>
              </a:rPr>
              <a:t>Zahlungsreihe ausfüll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stimmung des jeweiligen LCC-Wertes (Barwertes bzw. Kapitalwert) für alle Varian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Je Variante werden die Jahreswerte je Kostenblock (Zeile) (z. B. aus der Nebenrechnung) in die Zahlungsreihe eintr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zu sind die ermittelten Häufigkeiten (z. B. auf Basis von Zuverlässigkeiten) je Leistungseinheit mit den ermittelten Kosten oder vorhandenen Standardwerten zu multiplizieren und auf die Jahresscheibe umzure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ierzu werden in den meisten Fällen Nebenrechnungen notwendig sein, die auch zur Dokumentation dienen können (siehe „Nebenrechnung durchführen“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skontierung und Teuerung sind gemäß Konzernvorgabe zu berücksichtigen und bereits im LCC-Taschenrechner hinterl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Weitere Hilfestellungen sind in der Excel-Datei LCC-Taschenrechner auf dem entsprechenden Reiter zu fi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BAA56-8659-4675-A933-426E4DC10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E30C-606A-44C7-A995-4AD728D5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BF755-54D0-406D-8BC0-B4A04E82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603C4-C78C-4493-9F3E-7DBCA5F5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58B07-169E-41E2-AE74-55034E71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4731B-97B0-4856-9FCA-3004DB5A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58884-ECD5-457F-BCD6-E1778CF2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2BDEF-F66F-42C0-8E84-1B1147F7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974AB-8222-4E9D-A2C9-6B944E6B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177E7-49B5-4278-99BD-875F616B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B64AA-92EF-4200-92BF-B649D853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7589-A600-45BD-9B53-6B94D467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88075-AF67-451C-981F-717C6454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097D1-E508-4492-A747-9559291F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5D3EE-B998-4DBB-A3DE-7BFD5230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3E175-562A-466D-8F4B-ED23A7B7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EC5FB-7BBE-4A78-AFB9-582C21D3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BDB730-345B-4FB1-AB02-5EC5B17E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627D18-68F2-4AC7-BDE8-CA8746E3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2BA673-380B-4E68-AA15-259836D8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6E9847-6BAA-48DB-BB48-5D35CF25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77DE3E-E646-4CFF-A60B-02A5FCEB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DAB4B-81C1-4595-8861-E38E676E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B37ACD-BEF2-4920-BE36-75B0FDA2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2CA319-49B4-4E01-BA58-113ABB1E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21832B-270A-4F87-B019-E82173D1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E91A19-684E-4076-8B8E-B4AEFB84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499F47-D198-44AA-A57A-A844EBE0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28DEED-B942-4208-99F2-5ADE19CF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5BF872-C5F3-47E4-95FD-FC4DDFB99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6F34C-9BED-42D8-9A2E-11F417F6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C0AF6-C51A-457B-8BE4-66B8C7D0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6AC6-4B2B-4924-B790-9E5E8236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4B08-B950-47A5-A898-254ABE55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2E350-7277-4DBE-81CB-EF301ED0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ED8DC-FBD1-4182-B861-84DAE985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8167-A0BB-4C75-AB1C-C1BAC8D50BFB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FB07-B104-42E1-A53E-4F70039B137F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0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2"/>
          <a:stretch/>
        </p:blipFill>
        <p:spPr>
          <a:xfrm>
            <a:off x="8283600" y="66600"/>
            <a:ext cx="15717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448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2D17-2FED-441E-B5ED-52FE34F6AD22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0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A22A-29A6-44F1-BE67-C30D319909A5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0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184720" y="1557360"/>
            <a:ext cx="44848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FD0F-313F-468D-B6D9-21BC9EE563DC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94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96" name="Picture 13" descr="DB-MNL_rgb_M"/>
          <p:cNvPicPr/>
          <p:nvPr/>
        </p:nvPicPr>
        <p:blipFill>
          <a:blip r:embed="rId2"/>
          <a:srcRect l="-2385" t="-46598" r="-16813" b="-13886"/>
          <a:stretch/>
        </p:blipFill>
        <p:spPr>
          <a:xfrm>
            <a:off x="8481960" y="0"/>
            <a:ext cx="14256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E7CE-F9F1-49D5-B77C-FB2E425D28BB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0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635880"/>
            <a:ext cx="990432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2" name="Ortbox"/>
          <p:cNvSpPr/>
          <p:nvPr/>
        </p:nvSpPr>
        <p:spPr>
          <a:xfrm>
            <a:off x="6537240" y="643716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uk, 20-01-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3" name="OEBox"/>
          <p:cNvSpPr/>
          <p:nvPr/>
        </p:nvSpPr>
        <p:spPr>
          <a:xfrm>
            <a:off x="6537240" y="5589720"/>
            <a:ext cx="336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land Railwa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4" name="Referentbox"/>
          <p:cNvSpPr/>
          <p:nvPr/>
        </p:nvSpPr>
        <p:spPr>
          <a:xfrm>
            <a:off x="6537240" y="587700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537240" y="556092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6537240" y="585000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537240" y="613728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537240" y="642636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9" name="OEBox_2"/>
          <p:cNvSpPr/>
          <p:nvPr/>
        </p:nvSpPr>
        <p:spPr>
          <a:xfrm>
            <a:off x="6537240" y="6165720"/>
            <a:ext cx="336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YZ 99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722160"/>
            <a:ext cx="75279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1" name="Titelbox"/>
          <p:cNvSpPr/>
          <p:nvPr/>
        </p:nvSpPr>
        <p:spPr>
          <a:xfrm>
            <a:off x="276120" y="2997360"/>
            <a:ext cx="4608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chaffung eines Container - Tragwagen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2" name="Titelbox"/>
          <p:cNvSpPr/>
          <p:nvPr/>
        </p:nvSpPr>
        <p:spPr>
          <a:xfrm>
            <a:off x="272880" y="2527200"/>
            <a:ext cx="36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C Berechn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131760" y="6093000"/>
            <a:ext cx="2797200" cy="461880"/>
            <a:chOff x="131760" y="6093000"/>
            <a:chExt cx="2797200" cy="461880"/>
          </a:xfrm>
        </p:grpSpPr>
        <p:sp>
          <p:nvSpPr>
            <p:cNvPr id="154" name="Text Box 17"/>
            <p:cNvSpPr/>
            <p:nvPr/>
          </p:nvSpPr>
          <p:spPr>
            <a:xfrm>
              <a:off x="140760" y="6308640"/>
              <a:ext cx="278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CC-Presentation-charts_UIC_de_2015-05-11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31760" y="6093000"/>
              <a:ext cx="82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okument :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156" name="Picture 20" descr="09_Innotrans-2010 030"/>
          <p:cNvPicPr/>
          <p:nvPr/>
        </p:nvPicPr>
        <p:blipFill>
          <a:blip r:embed="rId1"/>
          <a:srcRect l="0" t="31651" r="12724" b="17582"/>
          <a:stretch/>
        </p:blipFill>
        <p:spPr>
          <a:xfrm>
            <a:off x="4305240" y="2421000"/>
            <a:ext cx="532764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4599-758A-4E8A-A3F4-E3311822DB38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895320" y="1916280"/>
            <a:ext cx="819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Alternative B  (Plan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346B-2513-4C6D-8237-98929217595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6" name="Textfeld 49"/>
          <p:cNvSpPr/>
          <p:nvPr/>
        </p:nvSpPr>
        <p:spPr>
          <a:xfrm rot="20397600">
            <a:off x="6312960" y="786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69840" y="2292480"/>
            <a:ext cx="97362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2000" y="388440"/>
            <a:ext cx="813744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rgebnisüberblick und Erläuter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84240" y="4508640"/>
            <a:ext cx="9712080" cy="15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itere notwendige Hebel / Aspek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wusst nicht berücksichtigte Aspekte haben folgenden Effekt:  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84240" y="412740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311940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79200" y="3413160"/>
            <a:ext cx="2962440" cy="5936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itä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5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26112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317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626112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312120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585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9200" y="205884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apitalwer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626112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3,644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312120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6,079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79200" y="273672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ückgewinnungszei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[Jahre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Break-even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6261120" y="273672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 Jahr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0" y="6081840"/>
            <a:ext cx="97394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positive Werte:  Erlöse,    negative Werte:  Aufwand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Rückgewinnungszeit:  Anzahl der Jahre bis die Planungsvariante sich rechnet. Sinngemäß auch mit Gewinnschwelle oder Break-Even bezeichnet.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Annuität:  durchschnittliche jährliche Kosten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2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2A8C-6507-42E5-AE54-EA943E8DAEE2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3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nnzahl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355920" y="1557360"/>
            <a:ext cx="176688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antwortliche  Abteil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181480" y="23130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andhaltungs- Dokumentationssystem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7953480" y="231300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5181480" y="1557360"/>
            <a:ext cx="272412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enquel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7953480" y="1557360"/>
            <a:ext cx="17985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änderung [%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ungsvariante zu Weiterführungsvariant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357720" y="23130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CD 31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5181480" y="28908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3357720" y="28908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5181480" y="346716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3357720" y="346716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5" name="Rectangle 13"/>
          <p:cNvSpPr/>
          <p:nvPr/>
        </p:nvSpPr>
        <p:spPr>
          <a:xfrm>
            <a:off x="196920" y="1549440"/>
            <a:ext cx="30909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ennzahl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198360" y="23050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ufleistung zwischen der Radreprofilier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7" name="Rectangle 15"/>
          <p:cNvSpPr/>
          <p:nvPr/>
        </p:nvSpPr>
        <p:spPr>
          <a:xfrm>
            <a:off x="198360" y="28828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8" name="Rectangle 16"/>
          <p:cNvSpPr/>
          <p:nvPr/>
        </p:nvSpPr>
        <p:spPr>
          <a:xfrm>
            <a:off x="198360" y="3459240"/>
            <a:ext cx="30909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122400" y="4941720"/>
            <a:ext cx="9712080" cy="15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122400" y="456876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8353080" y="2421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10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2" name="Rectangle 20"/>
          <p:cNvSpPr/>
          <p:nvPr/>
        </p:nvSpPr>
        <p:spPr>
          <a:xfrm>
            <a:off x="7953480" y="289548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3" name="Rectangle 21"/>
          <p:cNvSpPr/>
          <p:nvPr/>
        </p:nvSpPr>
        <p:spPr>
          <a:xfrm>
            <a:off x="7948440" y="3471840"/>
            <a:ext cx="17989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4" name="AutoShape 22"/>
          <p:cNvSpPr/>
          <p:nvPr/>
        </p:nvSpPr>
        <p:spPr>
          <a:xfrm rot="18915000">
            <a:off x="9158400" y="3492000"/>
            <a:ext cx="361800" cy="419400"/>
          </a:xfrm>
          <a:prstGeom prst="downArrow">
            <a:avLst>
              <a:gd name="adj1" fmla="val 50000"/>
              <a:gd name="adj2" fmla="val 27671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5" name="Rectangle 23"/>
          <p:cNvSpPr/>
          <p:nvPr/>
        </p:nvSpPr>
        <p:spPr>
          <a:xfrm>
            <a:off x="8139240" y="35593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6" name="AutoShape 24"/>
          <p:cNvSpPr/>
          <p:nvPr/>
        </p:nvSpPr>
        <p:spPr>
          <a:xfrm rot="18915000">
            <a:off x="9144000" y="2914200"/>
            <a:ext cx="361800" cy="419040"/>
          </a:xfrm>
          <a:prstGeom prst="downArrow">
            <a:avLst>
              <a:gd name="adj1" fmla="val 50000"/>
              <a:gd name="adj2" fmla="val 27647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7" name="Rectangle 25"/>
          <p:cNvSpPr/>
          <p:nvPr/>
        </p:nvSpPr>
        <p:spPr>
          <a:xfrm>
            <a:off x="8139240" y="29811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0830-0F3D-460F-B310-D00611491D13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9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200160" y="40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Ergebnisplanung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Delta der Variante „B“ zur Variante „A“ [= Null-Linie])</a:t>
            </a:r>
            <a:endParaRPr b="1" lang="en-US" sz="13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F194-9717-45E8-A26A-69ECA0AAFDD9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3" name="AutoShape 302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4" name="AutoShape 598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5" name="Textfeld 49"/>
          <p:cNvSpPr/>
          <p:nvPr/>
        </p:nvSpPr>
        <p:spPr>
          <a:xfrm rot="20397600">
            <a:off x="6161040" y="72360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46" name="Picture 11" descr=""/>
          <p:cNvPicPr/>
          <p:nvPr/>
        </p:nvPicPr>
        <p:blipFill>
          <a:blip r:embed="rId1"/>
          <a:stretch/>
        </p:blipFill>
        <p:spPr>
          <a:xfrm>
            <a:off x="930240" y="1488960"/>
            <a:ext cx="8010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Rückgewinnungszeit  (Break-even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B737-F4CD-46C5-9730-BB3D0BAD1B46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9" name="Textfeld 49"/>
          <p:cNvSpPr/>
          <p:nvPr/>
        </p:nvSpPr>
        <p:spPr>
          <a:xfrm rot="20397600">
            <a:off x="5552280" y="38844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0" name="Picture 7" descr=""/>
          <p:cNvPicPr/>
          <p:nvPr/>
        </p:nvPicPr>
        <p:blipFill>
          <a:blip r:embed="rId1"/>
          <a:stretch/>
        </p:blipFill>
        <p:spPr>
          <a:xfrm>
            <a:off x="609480" y="1461960"/>
            <a:ext cx="861084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pfehl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65240" y="1841400"/>
            <a:ext cx="9469440" cy="7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e Beschaffung des Container-Tragwagens des Herstellers B wird empfoh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165240" y="1465200"/>
            <a:ext cx="946944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ewählte Variante / Empfehlung 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177840" y="3084480"/>
            <a:ext cx="6335640" cy="12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grund der radial einstellbaren Radsätze ist die Verschleissrate der Räder geringer. Die Lebensdauer als auch die Reprofilierungszyklen sind dadurch deutlich länger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grund der höheren Qualität der Container Befestigungssystem ist der IH-Aufwand geringer gegenüber dem Container-Tragwagen des Herstellers A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177840" y="2708280"/>
            <a:ext cx="94676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egründ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6669000" y="3094200"/>
            <a:ext cx="2982960" cy="12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ückgewinnungszeit:  13 Jahr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lere Einsparung pro Jahr (Delta Annuität):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 per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16524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lärung der finanziellen Option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16524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oraussetzungen für Umsetz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497052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stellen eines Beschaffungszeitplan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Zustimmung durch das Controlling einho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497052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iteres Vorgehen                         Termin/Verantwortl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987C-9D1A-4085-9222-FA3B29153918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2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eigabestatu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57320" y="1484280"/>
            <a:ext cx="9578880" cy="5126040"/>
            <a:chOff x="157320" y="1484280"/>
            <a:chExt cx="9578880" cy="5126040"/>
          </a:xfrm>
        </p:grpSpPr>
        <p:sp>
          <p:nvSpPr>
            <p:cNvPr id="365" name="Rectangle 4"/>
            <p:cNvSpPr/>
            <p:nvPr/>
          </p:nvSpPr>
          <p:spPr>
            <a:xfrm>
              <a:off x="157320" y="1484280"/>
              <a:ext cx="957276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Erstellt von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160560" y="4897440"/>
              <a:ext cx="9572400" cy="39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Verfolgung der Umsetzung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227160" y="1922400"/>
              <a:ext cx="9429840" cy="503280"/>
              <a:chOff x="227160" y="1922400"/>
              <a:chExt cx="9429840" cy="503280"/>
            </a:xfrm>
          </p:grpSpPr>
          <p:sp>
            <p:nvSpPr>
              <p:cNvPr id="368" name="Rectangle 7"/>
              <p:cNvSpPr/>
              <p:nvPr/>
            </p:nvSpPr>
            <p:spPr>
              <a:xfrm>
                <a:off x="3167280" y="197460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XYZ 99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69" name="Rectangle 8"/>
              <p:cNvSpPr/>
              <p:nvPr/>
            </p:nvSpPr>
            <p:spPr>
              <a:xfrm>
                <a:off x="4532760" y="197460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ldwin Brown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0" name="Rectangle 9"/>
              <p:cNvSpPr/>
              <p:nvPr/>
            </p:nvSpPr>
            <p:spPr>
              <a:xfrm>
                <a:off x="7880760" y="197460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1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1" name="Rectangle 10"/>
              <p:cNvSpPr/>
              <p:nvPr/>
            </p:nvSpPr>
            <p:spPr>
              <a:xfrm>
                <a:off x="290880" y="197460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Herstell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2" name="Rectangle 11"/>
              <p:cNvSpPr/>
              <p:nvPr/>
            </p:nvSpPr>
            <p:spPr>
              <a:xfrm>
                <a:off x="227160" y="192240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3" name="Group 12"/>
            <p:cNvGrpSpPr/>
            <p:nvPr/>
          </p:nvGrpSpPr>
          <p:grpSpPr>
            <a:xfrm>
              <a:off x="231840" y="2474640"/>
              <a:ext cx="9429840" cy="503280"/>
              <a:chOff x="231840" y="2474640"/>
              <a:chExt cx="9429840" cy="503280"/>
            </a:xfrm>
          </p:grpSpPr>
          <p:sp>
            <p:nvSpPr>
              <p:cNvPr id="374" name="Rectangle 13"/>
              <p:cNvSpPr/>
              <p:nvPr/>
            </p:nvSpPr>
            <p:spPr>
              <a:xfrm>
                <a:off x="3171960" y="25268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5" name="Rectangle 14"/>
              <p:cNvSpPr/>
              <p:nvPr/>
            </p:nvSpPr>
            <p:spPr>
              <a:xfrm>
                <a:off x="4537440" y="25268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6" name="Rectangle 15"/>
              <p:cNvSpPr/>
              <p:nvPr/>
            </p:nvSpPr>
            <p:spPr>
              <a:xfrm>
                <a:off x="7885440" y="25268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7" name="Rectangle 16"/>
              <p:cNvSpPr/>
              <p:nvPr/>
            </p:nvSpPr>
            <p:spPr>
              <a:xfrm>
                <a:off x="295560" y="25268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8" name="Rectangle 17"/>
              <p:cNvSpPr/>
              <p:nvPr/>
            </p:nvSpPr>
            <p:spPr>
              <a:xfrm>
                <a:off x="231840" y="24746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9" name="Group 18"/>
            <p:cNvGrpSpPr/>
            <p:nvPr/>
          </p:nvGrpSpPr>
          <p:grpSpPr>
            <a:xfrm>
              <a:off x="235080" y="3012840"/>
              <a:ext cx="9429840" cy="503280"/>
              <a:chOff x="235080" y="3012840"/>
              <a:chExt cx="9429840" cy="503280"/>
            </a:xfrm>
          </p:grpSpPr>
          <p:sp>
            <p:nvSpPr>
              <p:cNvPr id="380" name="Rectangle 19"/>
              <p:cNvSpPr/>
              <p:nvPr/>
            </p:nvSpPr>
            <p:spPr>
              <a:xfrm>
                <a:off x="3175200" y="30650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1" name="Rectangle 20"/>
              <p:cNvSpPr/>
              <p:nvPr/>
            </p:nvSpPr>
            <p:spPr>
              <a:xfrm>
                <a:off x="4540680" y="30650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2" name="Rectangle 21"/>
              <p:cNvSpPr/>
              <p:nvPr/>
            </p:nvSpPr>
            <p:spPr>
              <a:xfrm>
                <a:off x="7888680" y="30650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3" name="Rectangle 22"/>
              <p:cNvSpPr/>
              <p:nvPr/>
            </p:nvSpPr>
            <p:spPr>
              <a:xfrm>
                <a:off x="298800" y="30650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4" name="Rectangle 23"/>
              <p:cNvSpPr/>
              <p:nvPr/>
            </p:nvSpPr>
            <p:spPr>
              <a:xfrm>
                <a:off x="235080" y="30128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385" name="Rectangle 24"/>
            <p:cNvSpPr/>
            <p:nvPr/>
          </p:nvSpPr>
          <p:spPr>
            <a:xfrm>
              <a:off x="163800" y="3673440"/>
              <a:ext cx="957240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Freigegeben von Auftraggeber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86" name="Group 25"/>
            <p:cNvGrpSpPr/>
            <p:nvPr/>
          </p:nvGrpSpPr>
          <p:grpSpPr>
            <a:xfrm>
              <a:off x="246240" y="4116240"/>
              <a:ext cx="9429840" cy="503280"/>
              <a:chOff x="246240" y="4116240"/>
              <a:chExt cx="9429840" cy="503280"/>
            </a:xfrm>
          </p:grpSpPr>
          <p:sp>
            <p:nvSpPr>
              <p:cNvPr id="387" name="Rectangle 26"/>
              <p:cNvSpPr/>
              <p:nvPr/>
            </p:nvSpPr>
            <p:spPr>
              <a:xfrm>
                <a:off x="3186360" y="4168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CD 2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8" name="Rectangle 27"/>
              <p:cNvSpPr/>
              <p:nvPr/>
            </p:nvSpPr>
            <p:spPr>
              <a:xfrm>
                <a:off x="4551840" y="41684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usan Smith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9" name="Rectangle 28"/>
              <p:cNvSpPr/>
              <p:nvPr/>
            </p:nvSpPr>
            <p:spPr>
              <a:xfrm>
                <a:off x="7899840" y="4168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2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0" name="Rectangle 29"/>
              <p:cNvSpPr/>
              <p:nvPr/>
            </p:nvSpPr>
            <p:spPr>
              <a:xfrm>
                <a:off x="309960" y="4168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1" name="Rectangle 30"/>
              <p:cNvSpPr/>
              <p:nvPr/>
            </p:nvSpPr>
            <p:spPr>
              <a:xfrm>
                <a:off x="246240" y="41162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2" name="Group 31"/>
            <p:cNvGrpSpPr/>
            <p:nvPr/>
          </p:nvGrpSpPr>
          <p:grpSpPr>
            <a:xfrm>
              <a:off x="239760" y="5313240"/>
              <a:ext cx="9429480" cy="530280"/>
              <a:chOff x="239760" y="5313240"/>
              <a:chExt cx="9429480" cy="530280"/>
            </a:xfrm>
          </p:grpSpPr>
          <p:sp>
            <p:nvSpPr>
              <p:cNvPr id="393" name="Rectangle 32"/>
              <p:cNvSpPr/>
              <p:nvPr/>
            </p:nvSpPr>
            <p:spPr>
              <a:xfrm>
                <a:off x="3179520" y="5392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4" name="Rectangle 33"/>
              <p:cNvSpPr/>
              <p:nvPr/>
            </p:nvSpPr>
            <p:spPr>
              <a:xfrm>
                <a:off x="4545000" y="539244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5" name="Rectangle 34"/>
              <p:cNvSpPr/>
              <p:nvPr/>
            </p:nvSpPr>
            <p:spPr>
              <a:xfrm>
                <a:off x="7893000" y="5392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6" name="Rectangle 35"/>
              <p:cNvSpPr/>
              <p:nvPr/>
            </p:nvSpPr>
            <p:spPr>
              <a:xfrm>
                <a:off x="303120" y="5392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7" name="Rectangle 36"/>
              <p:cNvSpPr/>
              <p:nvPr/>
            </p:nvSpPr>
            <p:spPr>
              <a:xfrm>
                <a:off x="239760" y="534024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8" name="Text Box 37"/>
              <p:cNvSpPr/>
              <p:nvPr/>
            </p:nvSpPr>
            <p:spPr>
              <a:xfrm>
                <a:off x="7656480" y="531324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9" name="Group 38"/>
            <p:cNvGrpSpPr/>
            <p:nvPr/>
          </p:nvGrpSpPr>
          <p:grpSpPr>
            <a:xfrm>
              <a:off x="243000" y="5883120"/>
              <a:ext cx="9429480" cy="514440"/>
              <a:chOff x="243000" y="5883120"/>
              <a:chExt cx="9429480" cy="514440"/>
            </a:xfrm>
          </p:grpSpPr>
          <p:sp>
            <p:nvSpPr>
              <p:cNvPr id="400" name="Rectangle 39"/>
              <p:cNvSpPr/>
              <p:nvPr/>
            </p:nvSpPr>
            <p:spPr>
              <a:xfrm>
                <a:off x="3182760" y="594648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1" name="Rectangle 40"/>
              <p:cNvSpPr/>
              <p:nvPr/>
            </p:nvSpPr>
            <p:spPr>
              <a:xfrm>
                <a:off x="4548240" y="594648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2" name="Rectangle 41"/>
              <p:cNvSpPr/>
              <p:nvPr/>
            </p:nvSpPr>
            <p:spPr>
              <a:xfrm>
                <a:off x="7896240" y="594648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3" name="Rectangle 42"/>
              <p:cNvSpPr/>
              <p:nvPr/>
            </p:nvSpPr>
            <p:spPr>
              <a:xfrm>
                <a:off x="306360" y="594648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4" name="Rectangle 43"/>
              <p:cNvSpPr/>
              <p:nvPr/>
            </p:nvSpPr>
            <p:spPr>
              <a:xfrm>
                <a:off x="243000" y="589428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5" name="Text Box 44"/>
              <p:cNvSpPr/>
              <p:nvPr/>
            </p:nvSpPr>
            <p:spPr>
              <a:xfrm>
                <a:off x="7659720" y="588312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406" name="Text Box 45"/>
            <p:cNvSpPr/>
            <p:nvPr/>
          </p:nvSpPr>
          <p:spPr>
            <a:xfrm>
              <a:off x="6163560" y="636408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*  appointet by the Client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4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79D1-93B9-49D7-BD2B-442264D5A8EB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4480" y="1700280"/>
            <a:ext cx="5283000" cy="19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schaffung von 85 neuen 60’ - Container – Trag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h erfolgter Qualitätsprüfung durch den Betreiber (Quality gate), verbleiben nur noch die Container – Tragwagen der beiden Anbieter A und B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unde: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486400" y="1838160"/>
            <a:ext cx="4317840" cy="1806840"/>
          </a:xfrm>
          <a:prstGeom prst="rect">
            <a:avLst/>
          </a:prstGeom>
          <a:noFill/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antwortung LCC-Berechnung:    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m:      Baldwin Brown,  Martina Mille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Auftrag v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09.2014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Fertigstellung a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.01.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9160" y="4098960"/>
            <a:ext cx="96883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Die Lebenszykluskosten (LCC) der beiden verbliebenen Varianten sind zu kalkulier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Kunde:  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480" y="1531800"/>
            <a:ext cx="5283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usgangssitu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" y="3716280"/>
            <a:ext cx="96883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CC - Aufgabenstell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0160" y="40464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eckbrief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489640" y="1527120"/>
            <a:ext cx="43178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steller der LCC-Berechnung, Termin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56600" y="6419880"/>
            <a:ext cx="583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78c96"/>
                </a:solidFill>
                <a:latin typeface="Arial"/>
              </a:rPr>
              <a:t>1):   Status Logic:  I = identifiziert,  A = Abgestimmt  E = Entschieden,  V = Voraussetzung geschaffe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108000" y="1135080"/>
            <a:ext cx="3146400" cy="264960"/>
            <a:chOff x="108000" y="1135080"/>
            <a:chExt cx="3146400" cy="264960"/>
          </a:xfrm>
        </p:grpSpPr>
        <p:sp>
          <p:nvSpPr>
            <p:cNvPr id="168" name="Text Box 11"/>
            <p:cNvSpPr/>
            <p:nvPr/>
          </p:nvSpPr>
          <p:spPr>
            <a:xfrm>
              <a:off x="108000" y="1135080"/>
              <a:ext cx="3146400" cy="264960"/>
            </a:xfrm>
            <a:prstGeom prst="rect">
              <a:avLst/>
            </a:prstGeom>
            <a:solidFill>
              <a:srgbClr val="d7de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atus Logik 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:   I          A          E          V      </a:t>
              </a:r>
              <a:endParaRPr b="1" lang="en-US" sz="12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444680" y="1174320"/>
              <a:ext cx="147600" cy="15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97964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249696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031920" y="1174320"/>
              <a:ext cx="1494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3F6A-8F7C-4C9F-8677-E07807FA2FC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74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891440" y="1476000"/>
            <a:ext cx="6156360" cy="4032000"/>
            <a:chOff x="1891440" y="1476000"/>
            <a:chExt cx="6156360" cy="4032000"/>
          </a:xfrm>
        </p:grpSpPr>
        <p:sp>
          <p:nvSpPr>
            <p:cNvPr id="176" name="AutoShape 3"/>
            <p:cNvSpPr/>
            <p:nvPr/>
          </p:nvSpPr>
          <p:spPr>
            <a:xfrm>
              <a:off x="1892160" y="1476360"/>
              <a:ext cx="6155640" cy="47448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4480"/>
                <a:gd name="textAreaBottom" fmla="*/ 4190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 flipV="1">
              <a:off x="1892160" y="5033880"/>
              <a:ext cx="6155640" cy="47376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3760"/>
                <a:gd name="textAreaBottom" fmla="*/ 418320 h 4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 flipV="1" rot="16200000">
              <a:off x="5803920" y="3263760"/>
              <a:ext cx="4031640" cy="45540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5400"/>
                <a:gd name="textAreaBottom" fmla="*/ 39132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H="1" flipV="1" rot="5400000">
              <a:off x="103320" y="3263400"/>
              <a:ext cx="4031640" cy="45612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6120"/>
                <a:gd name="textAreaBottom" fmla="*/ 392040 h 4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80" name="Rectangle 7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/Out-Rahm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8440" y="5532480"/>
            <a:ext cx="173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levant, aber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ßerhal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92560" y="2028960"/>
            <a:ext cx="34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nerhalb 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8121600" y="5767560"/>
            <a:ext cx="1728720" cy="3769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stgelegt am 01/10/2010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urch:   Baldwin Brow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8307360" y="1486080"/>
            <a:ext cx="14382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8307360" y="23097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8307360" y="31478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8307360" y="397188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07360" y="4795920"/>
            <a:ext cx="1438200" cy="8236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52280" y="4784760"/>
            <a:ext cx="1440000" cy="638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541600" y="2448000"/>
            <a:ext cx="15494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i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541600" y="3286080"/>
            <a:ext cx="15494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Container Befestigungssyste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26888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 Radsatzwechsel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268880" y="328608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 Sgns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93892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5954760" y="328140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267080" y="4116240"/>
            <a:ext cx="143856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937120" y="41162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49520" y="4103640"/>
            <a:ext cx="1547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reprofiling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62400" y="5805360"/>
            <a:ext cx="156528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ns 380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018040" y="58053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550200" y="580536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52280" y="148608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 anderer Komponenten des Wagen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52280" y="23097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ieverbrauch während des Betieb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152280" y="31478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rastruktur - Nutzungsentgeld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152280" y="39718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adung / Entladu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822320" y="58053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Geschwindigkeit: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EFAE-36A0-47BD-B929-B0175E588B71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uktur des Produktionsmittels / Systemzusammenhänge 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88880" y="1628640"/>
            <a:ext cx="188604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28880" y="244944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rahmen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2" name="AutoShape 5"/>
          <p:cNvCxnSpPr>
            <a:stCxn id="210" idx="2"/>
            <a:endCxn id="211" idx="1"/>
          </p:cNvCxnSpPr>
          <p:nvPr/>
        </p:nvCxnSpPr>
        <p:spPr>
          <a:xfrm flipH="1" rot="16200000">
            <a:off x="1385280" y="2135160"/>
            <a:ext cx="591120" cy="497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Rectangle 6"/>
          <p:cNvSpPr/>
          <p:nvPr/>
        </p:nvSpPr>
        <p:spPr>
          <a:xfrm>
            <a:off x="4665600" y="285264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bautei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4" name="AutoShape 7"/>
          <p:cNvCxnSpPr/>
          <p:nvPr/>
        </p:nvCxnSpPr>
        <p:spPr>
          <a:xfrm rot="10800000">
            <a:off x="2864880" y="2923560"/>
            <a:ext cx="1781640" cy="146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5" name="Rectangle 9"/>
          <p:cNvSpPr/>
          <p:nvPr/>
        </p:nvSpPr>
        <p:spPr>
          <a:xfrm>
            <a:off x="1928880" y="375912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werk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7920" y="413532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dsatz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7" name="AutoShape 11"/>
          <p:cNvCxnSpPr>
            <a:stCxn id="216" idx="1"/>
            <a:endCxn id="215" idx="2"/>
          </p:cNvCxnSpPr>
          <p:nvPr/>
        </p:nvCxnSpPr>
        <p:spPr>
          <a:xfrm rot="10800000">
            <a:off x="2907720" y="4218840"/>
            <a:ext cx="1780200" cy="146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Rectangle 12"/>
          <p:cNvSpPr/>
          <p:nvPr/>
        </p:nvSpPr>
        <p:spPr>
          <a:xfrm>
            <a:off x="1928880" y="505620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7920" y="545940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0" name="AutoShape 14"/>
          <p:cNvCxnSpPr>
            <a:stCxn id="219" idx="1"/>
            <a:endCxn id="218" idx="2"/>
          </p:cNvCxnSpPr>
          <p:nvPr/>
        </p:nvCxnSpPr>
        <p:spPr>
          <a:xfrm rot="10800000">
            <a:off x="2907720" y="5515920"/>
            <a:ext cx="1780200" cy="17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AutoShape 15"/>
          <p:cNvCxnSpPr>
            <a:stCxn id="215" idx="1"/>
            <a:endCxn id="210" idx="2"/>
          </p:cNvCxnSpPr>
          <p:nvPr/>
        </p:nvCxnSpPr>
        <p:spPr>
          <a:xfrm rot="10800000">
            <a:off x="1431360" y="2088360"/>
            <a:ext cx="497520" cy="190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218" idx="1"/>
            <a:endCxn id="210" idx="2"/>
          </p:cNvCxnSpPr>
          <p:nvPr/>
        </p:nvCxnSpPr>
        <p:spPr>
          <a:xfrm rot="10800000">
            <a:off x="1431360" y="2088360"/>
            <a:ext cx="497520" cy="3197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Rectangle 17"/>
          <p:cNvSpPr/>
          <p:nvPr/>
        </p:nvSpPr>
        <p:spPr>
          <a:xfrm>
            <a:off x="7473960" y="340344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iner Befestig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7486560" y="592128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5" name="AutoShape 19"/>
          <p:cNvCxnSpPr>
            <a:stCxn id="223" idx="1"/>
            <a:endCxn id="213" idx="2"/>
          </p:cNvCxnSpPr>
          <p:nvPr/>
        </p:nvCxnSpPr>
        <p:spPr>
          <a:xfrm rot="10800000">
            <a:off x="5523840" y="3312360"/>
            <a:ext cx="1931040" cy="321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6" name="AutoShape 20"/>
          <p:cNvCxnSpPr>
            <a:stCxn id="224" idx="1"/>
            <a:endCxn id="219" idx="2"/>
          </p:cNvCxnSpPr>
          <p:nvPr/>
        </p:nvCxnSpPr>
        <p:spPr>
          <a:xfrm rot="10800000">
            <a:off x="5546160" y="5919120"/>
            <a:ext cx="1940400" cy="232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98CC-F42A-4C5F-8319-5DD6C454AFD0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8" name="Textfeld 49"/>
          <p:cNvSpPr/>
          <p:nvPr/>
        </p:nvSpPr>
        <p:spPr>
          <a:xfrm rot="20397600">
            <a:off x="675288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"/>
          <p:cNvSpPr/>
          <p:nvPr/>
        </p:nvSpPr>
        <p:spPr>
          <a:xfrm>
            <a:off x="200160" y="40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roffene LCC-Kostenblöck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ADB1-7DF1-4312-9A50-328750742D3D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1" name="Textfeld 49"/>
          <p:cNvSpPr/>
          <p:nvPr/>
        </p:nvSpPr>
        <p:spPr>
          <a:xfrm rot="20397600">
            <a:off x="553356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32" name="Picture 20" descr=""/>
          <p:cNvPicPr/>
          <p:nvPr/>
        </p:nvPicPr>
        <p:blipFill>
          <a:blip r:embed="rId1"/>
          <a:stretch/>
        </p:blipFill>
        <p:spPr>
          <a:xfrm>
            <a:off x="104760" y="1550880"/>
            <a:ext cx="9698040" cy="50022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2"/>
          <p:cNvSpPr/>
          <p:nvPr/>
        </p:nvSpPr>
        <p:spPr>
          <a:xfrm>
            <a:off x="271440" y="3789360"/>
            <a:ext cx="21826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5076720" y="3068640"/>
            <a:ext cx="22114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5105520" y="3965400"/>
            <a:ext cx="2182680" cy="37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ielsetzung &amp; Kurzbeschreibung je Variant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16072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04760" y="21495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Zielsetz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01488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reduziertem Instandhaltungsaufwand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601488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216216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bekannten Eigenschaften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104760" y="43149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urzbeschreibung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601488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glichen mit den existieren Wagentypen sind die Lebensdauer der Räder als auch die Reprofilierungszyklen größer.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Zuverlässigkeit der Container –Besfestigung ist signifikant höher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216216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niedrigeren Investitionskosten führen zu ähnlich hohen Instandhaltungskosten, wie derzeit üblich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0615-EDBA-4D74-B5CF-CBC8A31EE0D8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6" name="Textfeld 49"/>
          <p:cNvSpPr/>
          <p:nvPr/>
        </p:nvSpPr>
        <p:spPr>
          <a:xfrm rot="20397600">
            <a:off x="568620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200160" y="404640"/>
            <a:ext cx="80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arianten: Nennung der wesentlichen Unterschie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57320" y="5267160"/>
            <a:ext cx="947736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kulationszinssatz::            10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tionsrate:                           3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ebensdauer des Waggons:   25 Jah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tlere Jahreslaufleiistung:   115.000 k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nahmen bleiben unverändert und gleich hoch für beide Varianten. Deshalb wird ausschließlich die Kostenstruktur der beiden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ianten verglich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157320" y="4921200"/>
            <a:ext cx="947736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inweise auf allgemeine Annahmen für alle Varianten, Erläuterungen und kritische Faktore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17360" y="1455840"/>
            <a:ext cx="2962440" cy="4604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16872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117360" y="19591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Radsätz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6434280" y="19591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643428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3170160" y="19591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117360" y="25369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hrwerks - Typ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6434280" y="25369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ehgestell mit zwei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3170160" y="25369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ehgestell mit zwei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ich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117360" y="314172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 der Container-Besfestig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6434280" y="314172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bessert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170160" y="3141720"/>
            <a:ext cx="31863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128520" y="374328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Container-Befestigungen pro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6465960" y="371808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3181320" y="374328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A3E1-0706-476E-94BA-4B3C62A718CB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6" name="Textfeld 49"/>
          <p:cNvSpPr/>
          <p:nvPr/>
        </p:nvSpPr>
        <p:spPr>
          <a:xfrm rot="20397600">
            <a:off x="6017400" y="399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fstellung der Kostendat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03320" y="1455840"/>
            <a:ext cx="1950840" cy="50328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ostenb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3492360" y="1455840"/>
            <a:ext cx="311796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03320" y="20271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686640" y="1455840"/>
            <a:ext cx="31176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492360" y="20271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5.0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686640" y="20271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9.5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103320" y="41752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Radwechs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492360" y="41752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7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6686640" y="41752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92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103320" y="52498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rsatz der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3492360" y="52498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18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6686640" y="52498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8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9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103320" y="31035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Korrektive Instandhaltung: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dsatz - Reprofilier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3492360" y="31035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5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6686640" y="31035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7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2136600" y="2027160"/>
            <a:ext cx="12481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2144880" y="3103560"/>
            <a:ext cx="12477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2144880" y="4178160"/>
            <a:ext cx="1247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2152800" y="5254560"/>
            <a:ext cx="12492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F85E-31EC-4755-8D98-D9D280BD2EED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Variante A (Weiterführ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9E56-95F7-4F86-94DE-13DC42FD5DC8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1" name="Textfeld 49"/>
          <p:cNvSpPr/>
          <p:nvPr/>
        </p:nvSpPr>
        <p:spPr>
          <a:xfrm rot="20397600">
            <a:off x="6313320" y="936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1"/>
          <a:stretch/>
        </p:blipFill>
        <p:spPr>
          <a:xfrm>
            <a:off x="49320" y="2187720"/>
            <a:ext cx="98298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6:34Z</dcterms:created>
  <dc:creator>Stefan Geweke</dc:creator>
  <dc:description/>
  <dc:language>en-US</dc:language>
  <cp:lastModifiedBy>Danzer, Peter</cp:lastModifiedBy>
  <dcterms:modified xsi:type="dcterms:W3CDTF">2015-05-17T22:18:58Z</dcterms:modified>
  <cp:revision>109</cp:revision>
  <dc:subject/>
  <dc:title>Slide 0</dc:title>
</cp:coreProperties>
</file>